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BBEE-4662-46BC-BC8A-8C93FDD35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B976-06B3-429C-81FD-A1407D58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1517-EC78-4BF5-864B-BD506E14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44BB-71DB-494B-BD28-51E8996F1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1238-9F64-4126-94BD-9FBCD10E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7363-EBD1-4BB6-A16F-E1D75B62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D1A6-0859-4963-922A-2C0611A3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F733-F4E7-4D9A-AA62-AC869631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CC20-3EC9-4AD4-9B75-DFAB77DE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F959-38AF-4676-8359-85ADB237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DFD0-2F0A-4C0E-BD0A-49A92362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9BD9-7144-4D8B-99D4-047747BD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3EB3-3606-4F99-A14D-0C7F885EF9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Representation Rec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earning Objectiv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vise key terms and concepts related to repres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Timed Pract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ection B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ontemporary Media 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ction B of the Critical Perspectives exam is based on the set topic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edia and Collective Ident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will be studying a range of texts, theories and debates whilst focussing on several in class case stud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You will also be asked to conduct some individual research on your own case stud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reas of stu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6518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xam board ask each student to consider a set of prompt questions for each topic, which they will be expected to respond to in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the Media and Collective Identity topic these are the ques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ow do contemporary media represent collective nations/regions in different wa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ow does contemporary representations compare to previous time perio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hat are the social implications of different representa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o what extent is human identity increasingly ‘mediated’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e will be working our way through these questions over the te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713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What is meant by represent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Trebuchet MS"/>
              </a:rPr>
              <a:t>In the media representations are often thought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Trebuchet MS"/>
              </a:rPr>
              <a:t>as ‘re-presentations’ of a particular social group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Trebuchet MS"/>
              </a:rPr>
              <a:t>They are seen by some media theorists  as ‘soci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Trebuchet MS"/>
              </a:rPr>
              <a:t>constructions’, presented to us by the media 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Trebuchet MS"/>
              </a:rPr>
              <a:t>the truth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During A2 Media we will hope to gain a deep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understanding of representational issues and the</a:t>
            </a:r>
            <a:r>
              <a:rPr b="0" i="1" lang="en-GB" sz="2600" spc="-1" strike="noStrike">
                <a:solidFill>
                  <a:srgbClr val="000000"/>
                </a:solidFill>
                <a:latin typeface="Trebuchet MS"/>
              </a:rPr>
              <a:t>‘fluid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Trebuchet MS"/>
              </a:rPr>
              <a:t>of representation’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asic application of re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Watch the opening of </a:t>
            </a:r>
            <a:r>
              <a:rPr b="1" i="1" lang="en-GB" sz="2000" spc="-1" strike="noStrike">
                <a:solidFill>
                  <a:srgbClr val="000000"/>
                </a:solidFill>
                <a:latin typeface="Trebuchet MS"/>
              </a:rPr>
              <a:t>‘Mean Girls’</a:t>
            </a: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 and consider the representation of the following demographic fact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Gen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Ethnic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Cla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Sexualit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Consider some of the key terms from the test and make no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Task: from your notes you will 30 minutes to answer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following ques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rebuchet MS"/>
              </a:rPr>
              <a:t>How is the issue of representation approached in the opening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rebuchet MS"/>
              </a:rPr>
              <a:t>‘</a:t>
            </a:r>
            <a:r>
              <a:rPr b="1" i="1" lang="en-GB" sz="2000" spc="-1" strike="noStrike">
                <a:solidFill>
                  <a:srgbClr val="000000"/>
                </a:solidFill>
                <a:latin typeface="Trebuchet MS"/>
              </a:rPr>
              <a:t>Mean Girls’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13:07:06Z</dcterms:created>
  <dc:creator>gokul</dc:creator>
  <dc:description/>
  <dc:language>en-US</dc:language>
  <cp:lastModifiedBy>martinaos</cp:lastModifiedBy>
  <dcterms:modified xsi:type="dcterms:W3CDTF">2010-09-09T07:01:57Z</dcterms:modified>
  <cp:revision>18</cp:revision>
  <dc:subject/>
  <dc:title>Representation In Soap Opera</dc:title>
</cp:coreProperties>
</file>